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831-374D-47F5-877B-335E9DC7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576-B892-4353-BB85-F1552C57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868-78F1-498C-8783-188C72ED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B1C-9827-4B49-90DE-78C6871B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C1F2-98E9-4420-99CA-C6489914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DA90-A45A-4820-9E6F-10556ED2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1A65-25C1-4539-886A-4A2FA27C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545A-0B04-4B60-A975-3626EB69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5759-7EBE-4433-8DE9-A59663B3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54D9-1B8A-4C37-AAD4-81059B08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19DE-F119-4568-B6BA-C41F0C55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78BC-A011-488B-898F-FD39E781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723D-A748-4145-8971-515AB3AD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A68A-F27F-4BB3-AB66-3BB84797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C144-9C6F-4A1C-A0D4-055882AF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E525-B8C0-4FA4-B296-29F4CDA0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1D63-D4B5-40D1-B70F-4F3B7FC3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4917-D6B0-489D-ADA7-5956FF76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CBBD-18C8-4EA2-A1A6-E4284C6E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173F-F74F-49F1-9FF8-D3160366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FD2-E703-4344-9CBF-0BE7B871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EB3C-C2EB-45CC-94A1-577DEF7C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014-8797-4AD1-94D1-D673036D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4FE5-5C51-46D9-BCC6-0ABAE061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A129-A7EB-4ECC-95FA-9657360DE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5A7E-93B6-4222-AA54-B4F868078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onerightcontracting.com/images/TermiteDamageBeforeLG.jpg&amp;imgrefurl=http://www.donerightcontracting.com/Photos2.html&amp;usg=__yAKl9YjdzT3Y8eJqkaBfs3haUgM=&amp;h=1200&amp;w=1600&amp;sz=107&amp;hl=en&amp;start=7&amp;um=1&amp;tbnid=3jjv2QRy2jzurM:&amp;tbnh=113&amp;tbnw=150&amp;prev=/images%3Fq%3Dtermite%2Bdamage%26hl%3Den%26safe%3Dactive%26um%3D1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2.timeinc.net/toh/i/a/solutions/caulk-trick-01.jpg&amp;imgrefurl=http://www.thisoldhouse.com/toh/skill-builder/0,,203700,00.html&amp;usg=__KWsjYwJRAqD0KZWwp9zY60jf_FM=&amp;h=300&amp;w=300&amp;sz=11&amp;hl=en&amp;start=9&amp;um=1&amp;tbnid=36cVyI7gSoIPDM:&amp;tbnh=116&amp;tbnw=116&amp;prev=/images%3Fq%3Dcaulk%26hl%3Den%26safe%3Dactive%26um%3D1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integritywoodwindowrepair.com/yahoo_site_admin/assets/images/scan0002.67100725_std.jpg&amp;imgrefurl=http://integritywoodwindowrepair.com/importance_of_caulk&amp;usg=__wFvjjQ8WwQqwn_M7KzZ6ZNpuMkQ=&amp;h=538&amp;w=800&amp;sz=81&amp;hl=en&amp;start=37&amp;um=1&amp;tbnid=f44taCa47fmYpM:&amp;tbnh=96&amp;tbnw=143&amp;prev=/images%3Fq%3Dcaulk%26ndsp%3D20%26hl%3Den%26safe%3Dactive%26sa%3DN%26start%3D20%26um%3D1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laredev.com/projects/silence/images/server13.jpg&amp;imgrefurl=http://www.flaredev.com/projects/silence/&amp;usg=__T1KPXcrmgGlYmpL11sKGRw_GpZw=&amp;h=379&amp;w=272&amp;sz=20&amp;hl=en&amp;start=3&amp;um=1&amp;tbnid=qZrP0GXMUlpQ3M:&amp;tbnh=123&amp;tbnw=88&amp;prev=/images%3Fq%3Dweather%2Bstripping%26hl%3Den%26safe%3Dactive%26um%3D1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images.google.com/imgres?imgurl=http://econewmexico.com/system/files/images/blue-door-weatherstripping.jpg&amp;imgrefurl=http://econewmexico.com/weather-stripping&amp;usg=__E2nqn1HTyfElp_i87MniutrgAUo=&amp;h=400&amp;w=300&amp;sz=35&amp;hl=en&amp;start=14&amp;um=1&amp;tbnid=cMjwAbxDGs8nRM:&amp;tbnh=124&amp;tbnw=93&amp;prev=/images%3Fq%3Dweather%2Bstripping%26hl%3Den%26safe%3Dactive%26um%3D1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images.google.com/imgres?imgurl=http://www.pplmotorhomes.com/parts/caulks-sealants/388608.jpg&amp;imgrefurl=http://www.pplmotorhomes.com/parts/caulks-sealants/42200.htm&amp;usg=__XQEEEiQ_PfLisLZKpFkMFj2juVw=&amp;h=237&amp;w=250&amp;sz=10&amp;hl=en&amp;start=1&amp;um=1&amp;tbnid=IuaDwEES49gC7M:&amp;tbnh=105&amp;tbnw=111&amp;prev=/images%3Fq%3Dweather%2Bstripping%26hl%3Den%26safe%3Dactive%26um%3D1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ouchlocal.com/media/business/3482305/DSCF0349.JPG%3F1229359210&amp;imgrefurl=http://www.touchlocal.com/nat/c-1430-t-2460-Paving%2BDriveway%2BContractors-Birmingham&amp;usg=__qDY0XCdQuXkaTHJMyKHMZXOTIR8=&amp;h=960&amp;w=1280&amp;sz=465&amp;hl=en&amp;start=1&amp;um=1&amp;tbnid=jaG-iptIH0S2JM:&amp;tbnh=113&amp;tbnw=150&amp;prev=/images%3Fq%3Ddriveways%26hl%3Den%26safe%3Dactive%26um%3D1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images.google.com/imgres?imgurl=http://www.landscaping4u.co.uk/index.php%3Ffuseaction%3Dfile.home%26content_id%3D148&amp;imgrefurl=http://www.landscaping4u.co.uk/drives-and-driveways&amp;usg=__t9WbEvbcC2SpkrN0Vf5xiiPeZ1I=&amp;h=300&amp;w=400&amp;sz=20&amp;hl=en&amp;start=26&amp;um=1&amp;tbnid=nIE4P_fLOzVpQM:&amp;tbnh=93&amp;tbnw=124&amp;prev=/images%3Fq%3Ddriveways%26ndsp%3D20%26hl%3Den%26safe%3Dactive%26sa%3DN%26start%3D20%26um%3D1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images.google.com/imgres?imgurl=http://www.srconstructionca.com/Graphics/driveways.jpg&amp;imgrefurl=http://www.srconstructionca.com/cementdriveways.html&amp;usg=__S_nycjGCHcfcBZcV2YqPsNdWEtQ=&amp;h=267&amp;w=350&amp;sz=33&amp;hl=en&amp;start=33&amp;um=1&amp;tbnid=tY4LNeN4eW8lrM:&amp;tbnh=92&amp;tbnw=120&amp;prev=/images%3Fq%3Ddriveways%26ndsp%3D20%26hl%3Den%26safe%3Dactive%26sa%3DN%26start%3D20%26um%3D1" TargetMode="External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ayview-house.com/images/site/gallery/sun_porches_and_decks/terrace_overhead.jpg&amp;imgrefurl=http://www.bayview-house.com/sun_porches_and_decks.html&amp;usg=__2xhWDXYYvczp4UsA3YXDHTTMBfs=&amp;h=502&amp;w=750&amp;sz=231&amp;hl=en&amp;start=30&amp;um=1&amp;tbnid=3xE8QlPN3s9vUM:&amp;tbnh=94&amp;tbnw=141&amp;prev=/images%3Fq%3Ddecks,%2Bporches,%2Bterraces%26ndsp%3D20%26hl%3Den%26safe%3Dactive%26sa%3DN%26start%3D20%26um%3D1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images.google.com/imgres?imgurl=http://www.leishmanlandscaping.com/about-us/images/decksAndPatios/005_Custom%2520wood%2520deck.jpg&amp;imgrefurl=http://www.leishmanlandscaping.com/about-us/portfolio.php&amp;usg=__g7rBcJXnsUyazGT7ZFKGikvk6ak=&amp;h=450&amp;w=606&amp;sz=122&amp;hl=en&amp;start=3&amp;um=1&amp;tbnid=PFAIKba2lZQWWM:&amp;tbnh=101&amp;tbnw=136&amp;prev=/images%3Fq%3Ddecks%2Band%2Bpatios%26hl%3Den%26safe%3Dactive%26um%3D1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images.google.com/imgres?imgurl=http://www.wayneshomeimprovements.com/decks.jpg&amp;imgrefurl=http://www.wayneshomeimprovements.com/services.htm&amp;usg=__ZJdeVV7Q8FP7D5alNE8t1buXE5A=&amp;h=1393&amp;w=2168&amp;sz=579&amp;hl=en&amp;start=6&amp;um=1&amp;tbnid=P_nAtVP-FVa45M:&amp;tbnh=96&amp;tbnw=150&amp;prev=/images%3Fq%3Ddecks%2Band%2Bpatios%26hl%3Den%26safe%3Dactive%26um%3D1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oheganiron.com/images/mohegan%2520watermarks/Exterior%2520Railings/Deck_Railing_R01.jpg&amp;imgrefurl=http://www.moheganiron.com/exterior_railings.html&amp;usg=__HjqaobuiivL1h_D5IbF0YJoIVJE=&amp;h=480&amp;w=637&amp;sz=310&amp;hl=en&amp;start=8&amp;um=1&amp;tbnid=XI77i8oc1k26VM:&amp;tbnh=103&amp;tbnw=137&amp;prev=/images%3Fq%3Ddeck%2Brailing%26hl%3Den%26safe%3Dactive%26um%3D1" TargetMode="External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inyltechinc.com/images/img_0468.jpg&amp;imgrefurl=http://www.vinyltechinc.com/Gutters___Downspouts.html&amp;usg=___iSMVJ1j1mc0Ml31Km4PcgW6yec=&amp;h=3264&amp;w=2448&amp;sz=4004&amp;hl=en&amp;start=8&amp;um=1&amp;tbnid=3GN5KWhIdB-4HM:&amp;tbnh=150&amp;tbnw=113&amp;prev=/images%3Fq%3Dgutters%2Band%2Bdownspouts%26hl%3Den%26safe%3Dactive%26sa%3DN%26um%3D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guttersupply.com/file_area/public/image/gutter%2520and%2520downspout.png&amp;imgrefurl=http://www.guttersupply.com/m-copper.gstml&amp;usg=__HrlU2V1Yp8Ra85sz183Va0yB4os=&amp;h=634&amp;w=896&amp;sz=646&amp;hl=en&amp;start=2&amp;um=1&amp;tbnid=-JBRkQxvuEocJM:&amp;tbnh=103&amp;tbnw=146&amp;prev=/images%3Fq%3Dgutters%2Band%2Bdownspouts%26hl%3Den%26safe%3Dactive%26sa%3DN%26um%3D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endlesssummerlawncare.net/content/gutter_full_4.jpg&amp;imgrefurl=http://www.endlesssummerlawncare.net/cleanupsfallspring.php&amp;usg=__hbUpUlkIn7914_2mOD8tl-HjiKk=&amp;h=477&amp;w=640&amp;sz=41&amp;hl=en&amp;start=21&amp;um=1&amp;tbnid=5q3HAKWPThvLOM:&amp;tbnh=102&amp;tbnw=137&amp;prev=/images%3Fq%3Dgutters%2Band%2Bdownspouts%26ndsp%3D20%26hl%3Den%26safe%3Dactive%26sa%3DN%26start%3D20%26um%3D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coloradoguttertopper.com/img/corporate/beautyshot.jpg&amp;imgrefurl=http://coloradoguttertopper.com/dealers/Product.aspx&amp;usg=__Wj2mWARFARdtcFuLW2sWpfpuEKo=&amp;h=322&amp;w=391&amp;sz=60&amp;hl=en&amp;start=27&amp;um=1&amp;tbnid=4wRXB9TyuzHawM:&amp;tbnh=101&amp;tbnw=123&amp;prev=/images%3Fq%3Dgutters%2Band%2Bdownspouts%26ndsp%3D20%26hl%3Den%26safe%3Dactive%26sa%3DN%26start%3D20%26um%3D1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ome-improvement-time.com/images/cedar-wood-siding-image.jpg&amp;imgrefurl=http://www.home-improvement-time.com/2008/05/23/free-cedar-wood-exterior-house-siding-samples/&amp;usg=__Mueb7O13_ZIOl37Bwd0LuhIcHk0=&amp;h=476&amp;w=452&amp;sz=60&amp;hl=en&amp;start=2&amp;um=1&amp;tbnid=KReM3uZEEzpRtM:&amp;tbnh=129&amp;tbnw=122&amp;prev=/images%3Fq%3Dwood%2Bsiding%2Bon%2Ba%2Bhouse%26hl%3Den%26safe%3Dactive%26um%3D1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img2.timeinc.net/toh/i/a/repair/wood-siding-2-00.jpg&amp;imgrefurl=http://www.thisoldhouse.com/toh/article/0,,1208709-3,00.html&amp;usg=__GHk1P73KibOr3iRx80nvVWDICKs=&amp;h=300&amp;w=300&amp;sz=12&amp;hl=en&amp;start=19&amp;um=1&amp;tbnid=6c4dwQPBGhLs3M:&amp;tbnh=116&amp;tbnw=116&amp;prev=/images%3Fq%3Dwood%2Bsiding%2Bon%2Ba%2Bhouse%26hl%3Den%26safe%3Dactive%26um%3D1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m/imgres?imgurl=http://i.ehow.com/images/GlobalPhoto/Articles/4895037/157196-main_Full.jpg&amp;imgrefurl=http://www.ehow.com/video_4756247_power-washing-vinyl-siding.html&amp;usg=__FazNBKH47S02gB34vV88lvfxs7Q=&amp;h=224&amp;w=300&amp;sz=12&amp;hl=en&amp;start=29&amp;um=1&amp;tbnid=UGokti6ft3PsMM:&amp;tbnh=87&amp;tbnw=116&amp;prev=/images%3Fq%3Dwood%2Bsiding%2Bon%2Ba%2Bhouse%26ndsp%3D20%26hl%3Den%26safe%3Dactive%26sa%3DN%26start%3D20%26um%3D1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4066009.u40.websitesource.net/images/Superbowl%2520Bash%2520%2708%2520144.JPG&amp;imgrefurl=http://www.arcoremodeling.com/gpage1.html&amp;usg=__JHK5eUS3hpWfMXJJpT7LpRztHys=&amp;h=979&amp;w=806&amp;sz=191&amp;hl=en&amp;start=11&amp;um=1&amp;tbnid=TsCrMhu0Cb72-M:&amp;tbnh=149&amp;tbnw=123&amp;prev=/images%3Fq%3Dfiber%2Bboard%2Bsiding%2Bon%2Ba%2Bhouse%26hl%3Den%26safe%3Dactive%26sa%3DG%26um%3D1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www.home-improvement-time.com/images/cerber-fiber-cement-siding-mahogany-profile.jpg&amp;imgrefurl=http://www.home-improvement-time.com/2008/05/06/cerber-fiber-cement-siding-sample-boards/&amp;usg=__zENj0KdfjuN-14FaudhYdLb76qI=&amp;h=317&amp;w=452&amp;sz=32&amp;hl=en&amp;start=12&amp;um=1&amp;tbnid=E-9pEmOHEp0K5M:&amp;tbnh=89&amp;tbnw=127&amp;prev=/images%3Fq%3Dfiber%2Bboard%2Bsiding%2Bon%2Ba%2Bhouse%26hl%3Den%26safe%3Dactive%26sa%3DG%26um%3D1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svinylsiding.com/images/house-vinyl-siding.jpg&amp;imgrefurl=http://www.tsvinylsiding.com/&amp;usg=__wQdlENVSVWSjGJ8E9VXeEfbidow=&amp;h=336&amp;w=290&amp;sz=60&amp;hl=en&amp;start=14&amp;um=1&amp;tbnid=bB1Y0cTT7psfhM:&amp;tbnh=119&amp;tbnw=103&amp;prev=/images%3Fq%3Dvinylsiding%2Bon%2Ba%2Bhouse%26hl%3Den%26safe%3Dactive%26um%3D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2.timeinc.net/toh/i/a/exteriors/mortar-10.jpg&amp;imgrefurl=http://www.thisoldhouse.com/toh/article/0,,232787,00.html&amp;usg=__R4dh0Kj0wN2LtlC9cV_lKj7RKM4=&amp;h=300&amp;w=300&amp;sz=26&amp;hl=en&amp;start=31&amp;um=1&amp;tbnid=XzkoFZAhJobAiM:&amp;tbnh=116&amp;tbnw=116&amp;prev=/images%3Fq%3Dbrick%2Bon%2Ba%2Bhouse%26ndsp%3D20%26hl%3Den%26safe%3Dactive%26sa%3DN%26start%3D20%26um%3D1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ior Maintenance and Clea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Modern No. 20"/>
              </a:rPr>
              <a:t>Stucco walls</a:t>
            </a: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 require washing to eliminate mold and mild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http://www.worldgateplasterandstucco.com/sites/1838/how-to-build-a-stucco-house.png"/>
          <p:cNvPicPr/>
          <p:nvPr/>
        </p:nvPicPr>
        <p:blipFill>
          <a:blip r:embed="rId1"/>
          <a:stretch/>
        </p:blipFill>
        <p:spPr>
          <a:xfrm>
            <a:off x="1371600" y="3429000"/>
            <a:ext cx="3495600" cy="310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http://www.sciway.net/sc-photos/albums/coast-sc/thigh-tile-house.jpg"/>
          <p:cNvPicPr/>
          <p:nvPr/>
        </p:nvPicPr>
        <p:blipFill>
          <a:blip r:embed="rId2"/>
          <a:stretch/>
        </p:blipFill>
        <p:spPr>
          <a:xfrm>
            <a:off x="5715000" y="2666880"/>
            <a:ext cx="2990880" cy="35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Modern No. 20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 homes need to be checked for termites annually. Termites feed on wood especially wood that is holding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TermiteDamageBeforeL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4343400"/>
            <a:ext cx="1962360" cy="1685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Termite Damage "/>
          <p:cNvPicPr/>
          <p:nvPr/>
        </p:nvPicPr>
        <p:blipFill>
          <a:blip r:embed="rId3"/>
          <a:stretch/>
        </p:blipFill>
        <p:spPr>
          <a:xfrm>
            <a:off x="3276720" y="5181480"/>
            <a:ext cx="3076560" cy="1524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http://frontlinepestmanagement.com/web_images/termites_1.jpg"/>
          <p:cNvPicPr/>
          <p:nvPr/>
        </p:nvPicPr>
        <p:blipFill>
          <a:blip r:embed="rId4"/>
          <a:stretch/>
        </p:blipFill>
        <p:spPr>
          <a:xfrm>
            <a:off x="1295280" y="3581280"/>
            <a:ext cx="2724120" cy="15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indow and Doo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Need regular cleaning and check for r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Need to be inspected to make sure they are properly caulked and sealed. </a:t>
            </a:r>
            <a:r>
              <a:rPr b="1" lang="en-US" sz="3200" spc="-1" strike="noStrike">
                <a:solidFill>
                  <a:srgbClr val="ff6600"/>
                </a:solidFill>
                <a:latin typeface="Modern No. 20"/>
              </a:rPr>
              <a:t>Caulk</a:t>
            </a: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 prevents air leakage, which is a major cause of higher heating and cooling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caulk-trick-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8380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scan00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5257800"/>
            <a:ext cx="13622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Modern No. 20"/>
              </a:rPr>
              <a:t>Weather stripping</a:t>
            </a: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 should also be replaced as it wears out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server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4038480"/>
            <a:ext cx="1676520" cy="1171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blue-door-weatherstrippi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4267080"/>
            <a:ext cx="1571400" cy="1752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38860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4114800"/>
            <a:ext cx="1828800" cy="13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riveways, Patios, Porches, Dec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Modern No. 20"/>
              </a:rPr>
              <a:t>Driveways</a:t>
            </a: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 may be constructed of concrete, asphalt, brick, or many other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Check for cracks and deteri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Pressure washing keeps away the excess dirt and alga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Apply water sealants to repel mois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riveway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DSCF03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2590920"/>
            <a:ext cx="3047760" cy="1676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inde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231444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driveway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19720" y="4495680"/>
            <a:ext cx="243828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Modern No. 20"/>
              </a:rPr>
              <a:t>Decks, porches, terraces</a:t>
            </a: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 should be checked for rot and damag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terrace_overhe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505320"/>
            <a:ext cx="2362320" cy="1581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005_Custom%2520wood%2520dec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81680" y="3089160"/>
            <a:ext cx="1752840" cy="1301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deck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38480" y="4800600"/>
            <a:ext cx="24386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http://skyebuilders.com/wp-content/gallery/decks-patios-fences/deck3.JPG"/>
          <p:cNvPicPr/>
          <p:nvPr/>
        </p:nvPicPr>
        <p:blipFill>
          <a:blip r:embed="rId1"/>
          <a:stretch/>
        </p:blipFill>
        <p:spPr>
          <a:xfrm>
            <a:off x="1295280" y="914400"/>
            <a:ext cx="7344000" cy="55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Pressure wash, paint and stain a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Also check railings and stairs to make sure they are safe, secure, and not dam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Deck_Railing_R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4114800"/>
            <a:ext cx="1990440" cy="1371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Breedlove-Ipe-Deck-Rail3"/>
          <p:cNvPicPr/>
          <p:nvPr/>
        </p:nvPicPr>
        <p:blipFill>
          <a:blip r:embed="rId3"/>
          <a:stretch/>
        </p:blipFill>
        <p:spPr>
          <a:xfrm>
            <a:off x="4267080" y="4343400"/>
            <a:ext cx="1381320" cy="1447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railing_spindle2"/>
          <p:cNvPicPr/>
          <p:nvPr/>
        </p:nvPicPr>
        <p:blipFill>
          <a:blip r:embed="rId4"/>
          <a:stretch/>
        </p:blipFill>
        <p:spPr>
          <a:xfrm>
            <a:off x="6477120" y="4724280"/>
            <a:ext cx="190476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Modern No. 20"/>
              </a:rPr>
              <a:t>Roof, Gutters, Downspou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Check roof for leaves and twigs as they contribute excess moisture that can cause r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Check metal and shingles roofs for scrapes by limbs that can damage during heavy winds and st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Check roofs every 6 months for loose shingl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Modern No. 20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dern No. 20"/>
              </a:rPr>
              <a:t>Keep gutters and downspouts clear of anything that may block the proper flow of water off the 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dern No. 20"/>
              </a:rPr>
              <a:t>Check gutters after a heavy storm or heavy leaf 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dern No. 20"/>
              </a:rPr>
              <a:t>If water cannot properly flow off the roof, it will backup into attic spaces and wall cavities, causing rot, mold, and term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utters and downspou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Picture 6" descr="img_04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523880"/>
            <a:ext cx="1879560" cy="2495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gutter%2520and%2520downspou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2286000"/>
            <a:ext cx="2076480" cy="1465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gutter_full_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4430880"/>
            <a:ext cx="2819520" cy="2098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beautyshot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057400" y="5105520"/>
            <a:ext cx="20098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terior Wa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Exterior walls can be wood, manufactured siding (fiberboard, or fiber cement siding), brick, vinyl siding, or stu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Modern No. 20"/>
              </a:rPr>
              <a:t>Wood siding</a:t>
            </a: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 must be monitored for rot and replaced as needed, must be painted or stained on regular basis to protect the house from sun, wind, 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ood Sid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cedar-wood-siding-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2743200"/>
            <a:ext cx="1981440" cy="1762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wood-siding-2-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2438280"/>
            <a:ext cx="2171520" cy="2057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157196-main_Fu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14800" y="4648320"/>
            <a:ext cx="198108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Modern No. 20"/>
              </a:rPr>
              <a:t>Manufactured siding</a:t>
            </a: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 needs to be washed and painted on a regular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Superbowl%2520Bash%2520%2708%25201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4038480"/>
            <a:ext cx="2052360" cy="2486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cerber-fiber-cement-siding-mahogany-profil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4175280"/>
            <a:ext cx="242892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Modern No. 20"/>
              </a:rPr>
              <a:t>Vinyl siding</a:t>
            </a: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 needs to be washed and checked for loose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house-vinyl-si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3886200"/>
            <a:ext cx="1667160" cy="1905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http://www.vinyl-siding-info.com/images/TYVEK-VINYL-SIDING_11.jpg"/>
          <p:cNvPicPr/>
          <p:nvPr/>
        </p:nvPicPr>
        <p:blipFill>
          <a:blip r:embed="rId3"/>
          <a:stretch/>
        </p:blipFill>
        <p:spPr>
          <a:xfrm>
            <a:off x="6553080" y="3200400"/>
            <a:ext cx="2000520" cy="2676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http://www.discount-structures.com/ds_files/stainColors540px.jpg"/>
          <p:cNvPicPr/>
          <p:nvPr/>
        </p:nvPicPr>
        <p:blipFill>
          <a:blip r:embed="rId4"/>
          <a:stretch/>
        </p:blipFill>
        <p:spPr>
          <a:xfrm>
            <a:off x="1295280" y="3352680"/>
            <a:ext cx="240048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If constructed of </a:t>
            </a:r>
            <a:r>
              <a:rPr b="1" lang="en-US" sz="3200" spc="-1" strike="noStrike">
                <a:solidFill>
                  <a:srgbClr val="ff6600"/>
                </a:solidFill>
                <a:latin typeface="Modern No. 20"/>
              </a:rPr>
              <a:t>brick</a:t>
            </a: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, check the mortar btw the bricks on a regular basis. </a:t>
            </a:r>
            <a:r>
              <a:rPr b="1" lang="en-US" sz="3200" spc="-1" strike="noStrike">
                <a:solidFill>
                  <a:srgbClr val="3366cc"/>
                </a:solidFill>
                <a:latin typeface="Modern No. 20"/>
              </a:rPr>
              <a:t>“Pointing up”</a:t>
            </a:r>
            <a:r>
              <a:rPr b="0" lang="en-US" sz="3200" spc="-1" strike="noStrike">
                <a:solidFill>
                  <a:srgbClr val="000000"/>
                </a:solidFill>
                <a:latin typeface="Modern No. 20"/>
              </a:rPr>
              <a:t> is the term for replacing the mor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mortar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3505320"/>
            <a:ext cx="1714320" cy="1600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http://housedesigngallery.com/wp-content/uploads/2009/12/red-brick-house-2.jpg"/>
          <p:cNvPicPr/>
          <p:nvPr/>
        </p:nvPicPr>
        <p:blipFill>
          <a:blip r:embed="rId3"/>
          <a:stretch/>
        </p:blipFill>
        <p:spPr>
          <a:xfrm>
            <a:off x="1295280" y="3809880"/>
            <a:ext cx="2590920" cy="151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http://archinspire.com/wp-content/uploads/2009/05/eco-green-brick-house-modern2.jpg"/>
          <p:cNvPicPr/>
          <p:nvPr/>
        </p:nvPicPr>
        <p:blipFill>
          <a:blip r:embed="rId4"/>
          <a:stretch/>
        </p:blipFill>
        <p:spPr>
          <a:xfrm>
            <a:off x="4267080" y="4419720"/>
            <a:ext cx="2476800" cy="198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0:14:20Z</dcterms:created>
  <dc:creator> sherry brooks</dc:creator>
  <dc:description/>
  <dc:language>en-US</dc:language>
  <cp:lastModifiedBy>s.brooks</cp:lastModifiedBy>
  <dcterms:modified xsi:type="dcterms:W3CDTF">2011-05-19T14:15:32Z</dcterms:modified>
  <cp:revision>9</cp:revision>
  <dc:subject/>
  <dc:title>PowerPoint Presentation</dc:title>
</cp:coreProperties>
</file>